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8" name="PlaceHolder 2"/>
          <p:cNvSpPr>
            <a:spLocks noGrp="1"/>
          </p:cNvSpPr>
          <p:nvPr>
            <p:ph type="dt" idx="1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51" name="PlaceHolder 5"/>
          <p:cNvSpPr>
            <a:spLocks noGrp="1"/>
          </p:cNvSpPr>
          <p:nvPr>
            <p:ph type="ftr" idx="1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52" name="PlaceHolder 6"/>
          <p:cNvSpPr>
            <a:spLocks noGrp="1"/>
          </p:cNvSpPr>
          <p:nvPr>
            <p:ph type="sldNum" idx="1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6AD1-CA88-46F6-9719-6A7DA7929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641E-5668-43FC-B422-37759F605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43000" y="685800"/>
            <a:ext cx="4572000" cy="3429000"/>
          </a:xfrm>
          <a:prstGeom prst="rect">
            <a:avLst/>
          </a:prstGeom>
          <a:ln w="0">
            <a:noFill/>
          </a:ln>
        </p:spPr>
      </p:sp>
      <p:sp>
        <p:nvSpPr>
          <p:cNvPr id="2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my audience to believe that multilingual education is beneficial to children.”</a:t>
            </a:r>
            <a:endParaRPr b="0" lang="en-US" sz="1200" spc="-1" strike="noStrike">
              <a:solidFill>
                <a:srgbClr val="000000"/>
              </a:solidFill>
              <a:latin typeface="Arial"/>
            </a:endParaRPr>
          </a:p>
        </p:txBody>
      </p:sp>
      <p:sp>
        <p:nvSpPr>
          <p:cNvPr id="2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CF8E-B5E6-4B0A-80DD-E580749F1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43000" y="685800"/>
            <a:ext cx="4572000" cy="3429000"/>
          </a:xfrm>
          <a:prstGeom prst="rect">
            <a:avLst/>
          </a:prstGeom>
          <a:ln w="0">
            <a:noFill/>
          </a:ln>
        </p:spPr>
      </p:sp>
      <p:sp>
        <p:nvSpPr>
          <p:cNvPr id="2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convince the audience that water packaged in plastic bottles should be taxed to pay for the cost associated with recycling empties.”</a:t>
            </a:r>
            <a:endParaRPr b="0" lang="en-US" sz="1200" spc="-1" strike="noStrike">
              <a:solidFill>
                <a:srgbClr val="000000"/>
              </a:solidFill>
              <a:latin typeface="Arial"/>
            </a:endParaRPr>
          </a:p>
        </p:txBody>
      </p:sp>
      <p:sp>
        <p:nvSpPr>
          <p:cNvPr id="2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3CF9-C34C-494F-9BA6-6F565A8D8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43000" y="685800"/>
            <a:ext cx="4572000" cy="3429000"/>
          </a:xfrm>
          <a:prstGeom prst="rect">
            <a:avLst/>
          </a:prstGeom>
          <a:ln w="0">
            <a:noFill/>
          </a:ln>
        </p:spPr>
      </p:sp>
      <p:sp>
        <p:nvSpPr>
          <p:cNvPr id="2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identified your speech goal and phrased it as a proposition, you are ready to organize the main points using an appropriate persuasive speech framework. If your proposition focuses on changing or reinforcing your audience’s belief or attitude toward your topic, you will give a speech to convince. If your proposition focuses on encouraging your audience to take action, you will give a speech to actuate. There are several different organizational frameworks for each of these types of persuasive speeche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7B25-2E1B-4B45-BCC4-9309FF0D4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1143000" y="685800"/>
            <a:ext cx="4572000" cy="3429000"/>
          </a:xfrm>
          <a:prstGeom prst="rect">
            <a:avLst/>
          </a:prstGeom>
          <a:ln w="0">
            <a:noFill/>
          </a:ln>
        </p:spPr>
      </p:sp>
      <p:sp>
        <p:nvSpPr>
          <p:cNvPr id="2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rative advantages organizational framework shows that one of two or more alternatives (which may include the status quo) is best. You show that the advantages of your alternative outweigh the disadvantages and that its advantages surpass the advantages of the other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eria satisfaction frame work is an indirect organization that seeks audience agreement on criteria that should be considered when evaluating a particular proposition and then shows how the proposition satisfies tho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teria satisfaction framework is especially useful when your audience is opposed to your proposition because it approaches the proposition indirectly by first focusing on criteria that the audience may agree with before introducing the specific proposition.</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47C3-C45C-4037-A09F-8A96A84A4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43000" y="685800"/>
            <a:ext cx="4572000" cy="3429000"/>
          </a:xfrm>
          <a:prstGeom prst="rect">
            <a:avLst/>
          </a:prstGeom>
          <a:ln w="0">
            <a:noFill/>
          </a:ln>
        </p:spPr>
      </p:sp>
      <p:sp>
        <p:nvSpPr>
          <p:cNvPr id="2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futative framework helps you organize your main points to persuade by both challenging the opposing arguments and bolstering your own. This framework is particularly useful when the target audience opposes your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of reasons is a form of persuasive organization used for confirming propositions of fact in which you present your best-supported reasons in a meaningful order. For a speech with three reasons or more, place the strongest reason last because this is the reason you believe the audience will find most persuasive. You will often place the second strongest reason first because you want to start with a significant point. Place the other reasons in between.</a:t>
            </a:r>
            <a:endParaRPr b="0" lang="en-US" sz="1200" spc="-1" strike="noStrike">
              <a:solidFill>
                <a:srgbClr val="000000"/>
              </a:solidFill>
              <a:latin typeface="Arial"/>
            </a:endParaRPr>
          </a:p>
        </p:txBody>
      </p:sp>
      <p:sp>
        <p:nvSpPr>
          <p:cNvPr id="2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E892-B211-4DEB-B3C3-CE6759093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1143000" y="685800"/>
            <a:ext cx="4572000" cy="3429000"/>
          </a:xfrm>
          <a:prstGeom prst="rect">
            <a:avLst/>
          </a:prstGeom>
          <a:ln w="0">
            <a:noFill/>
          </a:ln>
        </p:spPr>
      </p:sp>
      <p:sp>
        <p:nvSpPr>
          <p:cNvPr id="2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blem-solution framework explains the nature of a problem and proposes a solution. A problem-solution pattern can be used with any persuasive speech, but it is particularly useful when listeners may be unaware of the problem or how they personally can work toward a solution. A speech to actuate organized in this way usually has three main points. The first examines the problem, the second presents the solution(s), and the third suggests what action the listener should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cause-solution framework is similar to problem-solution but differs from it by adding a main point that reveals the causes of the problem and then proposes a solution designed to alleviate those causes. This pattern is particularly useful for addressing seemingly intractable problems that have been dealt with unsuccessfully in the past as a result of treating symptoms rather than underlying causes. In speeches to actuate, the problem-cause-solution main points are followed by a fourth main point that calls the audience to a specific action.</a:t>
            </a:r>
            <a:endParaRPr b="0" lang="en-US" sz="1200" spc="-1" strike="noStrike">
              <a:solidFill>
                <a:srgbClr val="000000"/>
              </a:solidFill>
              <a:latin typeface="Arial"/>
            </a:endParaRPr>
          </a:p>
        </p:txBody>
      </p:sp>
      <p:sp>
        <p:nvSpPr>
          <p:cNvPr id="2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8879-AC4B-4AA0-AA97-5B49F5D3A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ivated sequence is an organizational framework that combines a problem-solution pattern with explicit appeals designed to motivate the audien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7D73-ACBE-47AF-8892-251BD74F2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1143000" y="685800"/>
            <a:ext cx="4572000" cy="3429000"/>
          </a:xfrm>
          <a:prstGeom prst="rect">
            <a:avLst/>
          </a:prstGeom>
          <a:ln w="0">
            <a:noFill/>
          </a:ln>
        </p:spPr>
      </p:sp>
      <p:sp>
        <p:nvSpPr>
          <p:cNvPr id="2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aker should follow five ethical guidelines when her specific goal is to convince the audience to agree with a proposition or to move the audience to action.</a:t>
            </a:r>
            <a:endParaRPr b="0" lang="en-US" sz="1200" spc="-1" strike="noStrike">
              <a:solidFill>
                <a:srgbClr val="000000"/>
              </a:solidFill>
              <a:latin typeface="Arial"/>
            </a:endParaRPr>
          </a:p>
        </p:txBody>
      </p:sp>
      <p:sp>
        <p:nvSpPr>
          <p:cNvPr id="2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08C9-807A-4A99-A4D4-4F6D47EBC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PlaceHolder 1"/>
          <p:cNvSpPr>
            <a:spLocks noGrp="1"/>
          </p:cNvSpPr>
          <p:nvPr>
            <p:ph type="sldImg"/>
          </p:nvPr>
        </p:nvSpPr>
        <p:spPr>
          <a:xfrm>
            <a:off x="1143000" y="685800"/>
            <a:ext cx="4572000" cy="3429000"/>
          </a:xfrm>
          <a:prstGeom prst="rect">
            <a:avLst/>
          </a:prstGeom>
          <a:ln w="0">
            <a:noFill/>
          </a:ln>
        </p:spPr>
      </p:sp>
      <p:sp>
        <p:nvSpPr>
          <p:cNvPr id="2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EBEE-9F1C-4B7F-8662-192283BB4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43000" y="685800"/>
            <a:ext cx="4572000" cy="3429000"/>
          </a:xfrm>
          <a:prstGeom prst="rect">
            <a:avLst/>
          </a:prstGeom>
          <a:ln w="0">
            <a:noFill/>
          </a:ln>
        </p:spPr>
      </p:sp>
      <p:sp>
        <p:nvSpPr>
          <p:cNvPr id="2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need to know in order to create effective and ethical persuasive speeches? First, you need to understand where most of the audience members stand on your topic so you can identify whether a speech to convince or to actuate is most appropriate. Then, you need to phrase a proposition, or persuasive speech goal, that is appropriate to the rhetorical situation and choose a suitable persuasive organizational framework. Finally, you need to evaluate your speech plan based on the ethical guidelines you have learned, as well as additional guidelines that are specific to persuasive situations.</a:t>
            </a:r>
            <a:endParaRPr b="0" lang="en-US" sz="1200" spc="-1" strike="noStrike">
              <a:solidFill>
                <a:srgbClr val="000000"/>
              </a:solidFill>
              <a:latin typeface="Arial"/>
            </a:endParaRPr>
          </a:p>
        </p:txBody>
      </p:sp>
      <p:sp>
        <p:nvSpPr>
          <p:cNvPr id="2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58B3-8F46-4F66-96E9-C8306DF4F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PlaceHolder 1"/>
          <p:cNvSpPr>
            <a:spLocks noGrp="1"/>
          </p:cNvSpPr>
          <p:nvPr>
            <p:ph type="sldImg"/>
          </p:nvPr>
        </p:nvSpPr>
        <p:spPr>
          <a:xfrm>
            <a:off x="1143000" y="685800"/>
            <a:ext cx="4572000" cy="3429000"/>
          </a:xfrm>
          <a:prstGeom prst="rect">
            <a:avLst/>
          </a:prstGeom>
          <a:ln w="0">
            <a:noFill/>
          </a:ln>
        </p:spPr>
      </p:sp>
      <p:sp>
        <p:nvSpPr>
          <p:cNvPr id="2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very difficult to convince someone to change his or her mind, what you can hope to accomplish in any one speech depends on where your audience stands on your topic. So as you begin considering your speech, you’ll want to understand the current direction and strength of audience members’ attitudes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your audience’s attitudes is part of the audience analysis process, which is Step 2 in the speech-planning process. Recall, you can do this by surveying the audience or by referring to published surveys and extrapolating these polls to the members of your audience. So you will want to begin your persuasive speech preparation by understanding the attitudes your audience is likely to have about your topic.</a:t>
            </a:r>
            <a:endParaRPr b="0" lang="en-US" sz="1200" spc="-1" strike="noStrike">
              <a:solidFill>
                <a:srgbClr val="000000"/>
              </a:solidFill>
              <a:latin typeface="Arial"/>
            </a:endParaRPr>
          </a:p>
        </p:txBody>
      </p:sp>
      <p:sp>
        <p:nvSpPr>
          <p:cNvPr id="2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6B6F-05E4-4965-B925-BC1C3196A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PlaceHolder 1"/>
          <p:cNvSpPr>
            <a:spLocks noGrp="1"/>
          </p:cNvSpPr>
          <p:nvPr>
            <p:ph type="sldImg"/>
          </p:nvPr>
        </p:nvSpPr>
        <p:spPr>
          <a:xfrm>
            <a:off x="1143000" y="685800"/>
            <a:ext cx="4572000" cy="3429000"/>
          </a:xfrm>
          <a:prstGeom prst="rect">
            <a:avLst/>
          </a:prstGeom>
          <a:ln w="0">
            <a:noFill/>
          </a:ln>
        </p:spPr>
      </p:sp>
      <p:sp>
        <p:nvSpPr>
          <p:cNvPr id="2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very difficult to convince someone to change his or her mind, what you can hope to accomplish in any one speech depends on where your audience stands on your topic. So as you begin considering your speech, you’ll want to understand the current direction and strength of audience members’ attitudes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your audience’s attitudes is part of the audience analysis process, which is Step 2 in the speech-planning process. Recall, you can do this by surveying the audience or by referring to published surveys and extrapolating these polls to the members of your audience. So you will want to begin your persuasive speech preparation by understanding the attitudes your audience is likely to have about your topic.</a:t>
            </a:r>
            <a:endParaRPr b="0" lang="en-US" sz="1200" spc="-1" strike="noStrike">
              <a:solidFill>
                <a:srgbClr val="000000"/>
              </a:solidFill>
              <a:latin typeface="Arial"/>
            </a:endParaRPr>
          </a:p>
        </p:txBody>
      </p:sp>
      <p:sp>
        <p:nvSpPr>
          <p:cNvPr id="2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A022-1AF5-43DF-8061-547766CA8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4CFB-A94B-4687-BE43-F9C1BA86D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members’ attitudes can range from highly favorable to strongly opposed and can be visualized as lying on a continuum like the one pictured in Exhibit 14.1.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sldImg"/>
          </p:nvPr>
        </p:nvSpPr>
        <p:spPr>
          <a:xfrm>
            <a:off x="1143000" y="685800"/>
            <a:ext cx="4572000" cy="3429000"/>
          </a:xfrm>
          <a:prstGeom prst="rect">
            <a:avLst/>
          </a:prstGeom>
          <a:ln w="0">
            <a:noFill/>
          </a:ln>
        </p:spPr>
      </p:sp>
      <p:sp>
        <p:nvSpPr>
          <p:cNvPr id="2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target audience is opposed to your goal, it is unrealistic to believe that you will be able to change their attitude from “opposed” to “in favor” in only one short speech. Instead, when dealing with a hostile audience, seek incremental change—try to move them only a small degree in your direction— hope for further movement later. When your target audience is neutral, you can be straightforward with reasons to support your goal.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target  audience is only mildly in favor of your proposal, your task is to reinforce and strengthen their belief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udience whose attitude supports your topic will still benefit from a logical explanation of the reasons for doing  so.</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143D-4E42-44FC-9DA4-12BB45405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PlaceHolder 1"/>
          <p:cNvSpPr>
            <a:spLocks noGrp="1"/>
          </p:cNvSpPr>
          <p:nvPr>
            <p:ph type="sldImg"/>
          </p:nvPr>
        </p:nvSpPr>
        <p:spPr>
          <a:xfrm>
            <a:off x="1143000" y="685800"/>
            <a:ext cx="4572000" cy="3429000"/>
          </a:xfrm>
          <a:prstGeom prst="rect">
            <a:avLst/>
          </a:prstGeom>
          <a:ln w="0">
            <a:noFill/>
          </a:ln>
        </p:spPr>
      </p:sp>
      <p:sp>
        <p:nvSpPr>
          <p:cNvPr id="2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suasive speech, you state your specific goal as a proposition. A proposition is a declarative sentence that clearly indicates the position you will advocat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convince my audience that smoking causes cancer.”</a:t>
            </a:r>
            <a:endParaRPr b="0" lang="en-US" sz="1200" spc="-1" strike="noStrike">
              <a:solidFill>
                <a:srgbClr val="000000"/>
              </a:solidFill>
              <a:latin typeface="Arial"/>
            </a:endParaRPr>
          </a:p>
        </p:txBody>
      </p:sp>
      <p:sp>
        <p:nvSpPr>
          <p:cNvPr id="2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A3D5-F87C-4791-AAC0-FE4AC61F6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43000" y="685800"/>
            <a:ext cx="4572000" cy="3429000"/>
          </a:xfrm>
          <a:prstGeom prst="rect">
            <a:avLst/>
          </a:prstGeom>
          <a:ln w="0">
            <a:noFill/>
          </a:ln>
        </p:spPr>
      </p:sp>
      <p:sp>
        <p:nvSpPr>
          <p:cNvPr id="2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nks to the Internet, paperbound books will cease to exist.”</a:t>
            </a:r>
            <a:endParaRPr b="0" lang="en-US" sz="1200" spc="-1" strike="noStrike">
              <a:solidFill>
                <a:srgbClr val="000000"/>
              </a:solidFill>
              <a:latin typeface="Arial"/>
            </a:endParaRPr>
          </a:p>
        </p:txBody>
      </p:sp>
      <p:sp>
        <p:nvSpPr>
          <p:cNvPr id="2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54C4-4207-4B73-866A-9F4F5689B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C8DFD-D636-4999-8284-3FAC386E0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BEA0B-4978-4B82-BF86-B57AC5407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F98578-318C-466F-8AF8-A87DB24B5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45E97B-9B31-4FA8-8B46-444C51313E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32BF5-A2AF-4CF3-969C-94BA6D4F74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86DE78-4A22-458C-B857-2FED7B204F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6408E-4053-4337-A6D1-E6C5B914B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E7C76-2C12-458F-9C1B-FB5DEC6486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5AB3D-6CB7-4B0D-B8D3-F38D1B3C9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153EB2-BE6F-440B-B14E-664001E580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49B069-04DC-4077-9733-CF3394DC3D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6B3426-C6F1-4301-816A-C56B020E7C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9366F-1884-4A87-BB52-30C66F590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C3AF8C-3045-4D6D-A1B5-C565D42597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677676-8462-4254-8D60-31AA1D784A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7B9085-B0F3-4A8E-B4F2-6AB3D18FAD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182BC6-5C1B-4D10-9E14-F391B515F0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016B60-7EEA-4708-99B6-98E56F8A6B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9714B0-44C4-41B9-8370-277CCF1E29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6DCB81-3BF6-47DE-A8F4-1DEF3994A8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B1A24C-1EDC-4BB9-A324-170120DA06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20F6F4-285A-43D6-9091-014369E7C9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1F81B6-70B6-46A3-A768-338FAC9E83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E2101-2D59-4F63-8D50-B1D31C5BF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868B5F-B4A2-4982-AD91-69008C1473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D00A43-A038-4F82-BB1D-8056C732C0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16B6AD-7A4F-49C7-ADF3-DE5D81543F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86FB71-CA94-4E63-9A14-DF0649E9AF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EA132D-1B94-4F68-98AD-2D1789F363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BB9DD8-08C7-46A8-9CB2-4B3EA4959D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15010D-06B5-4FAA-A33D-A7A9728A52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3DCD1C-1B58-483D-96FF-280DE3DE55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A8BA41-10FC-4705-8D2D-AE7AED1972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FF17C9-5D75-4DB7-AAC8-A773294FDB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7D240-4871-4DC1-8ED9-D8806A2EF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B97ED9-C8BE-4CF0-9BA8-1913860D60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51AEC8-6E5E-4B65-9271-1484FEC64B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3BA542-0C60-4449-81A6-900A95F5E4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EBF95E-58E6-44C4-890D-746B880502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75C818-1D51-4E60-9106-DDF9706DC9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39FEAA-F208-487B-B98F-799BFEF327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2EB689-4A2F-4C8E-BAE7-0ADBD1BA0D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225EFE-2ACB-4BBD-A72C-E31A9E2BC2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CD9F56-B7FC-4A74-8680-00B5FD6E87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730452-61BD-4B73-9436-B13D6842C5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38440-F767-4126-9717-00E61A7E4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E0C488-8528-49F4-AF84-E2B7F07772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DE5C74-3EC9-4D1C-AD7F-18F2ED7BD9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80B06D-291E-44C2-A9C5-5B33E7B4E3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0642B6-481E-44F3-87E8-9178CE2AE8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54C712-A559-4757-ABE9-B95EEE54E2E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9C0010-D3DB-4866-A42E-1D8C2EE643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F56606-700D-40C4-A0FA-F3EA0ED91C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8B1D61-B1AB-417A-B25E-06BB68CC94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94A8DF-20AB-41E1-B2C7-D51DC8B70C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386ADF-881F-47E6-871A-02130924AF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64FD9-84BE-4926-8D12-EB4BFF803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1DF199-575A-40CF-8318-ED422F8647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8DCD57-A3BD-4482-9E74-60902E2787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3F9A0B-17CB-44D1-845C-9A7EFA5035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41D70E-91D8-4322-A9C5-1B9BCF20EE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CE1EE8-6AE0-4D88-A140-9260FE5322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82D930-A350-49A2-A35C-6BCB5711F9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1E6DB43-8364-4F83-9E44-694924F157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3361F08-568B-470E-9211-516D9A900A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CDB6B5-0339-46A3-BF1D-D960A93374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6A1ADE-C8D1-4578-9A88-C8D8807662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4013B-76D7-41F6-A83C-18DD68129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7634D0-DB8F-43CE-AD29-C4FE2CEDF8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E06FB1-3CCB-4DCD-8D87-BA858172E0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1E442E-C238-4146-8D61-005C094106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A93336-E0A4-4EA9-9E4F-C02BB3E1F3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0D0776-FD53-4800-B5B2-B293EAE014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269138-24EE-4A35-BC0D-005758C348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2FCD56-D1AA-4565-82FB-2EBC71C3AC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29C51E-59FA-4032-9A1F-19AA0C4A2F7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C0EB32E-9698-4611-A0E5-3C60FA4A1E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40B196B-95F2-45EC-907E-6497DC76BCB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0B961-C536-4033-AD57-55BF3796F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5B86897-02E0-4402-830C-28A16C5C48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A13A6F-6CC3-48D0-A042-081DB640E5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36088D-6ADB-4990-94A9-6E066CF1CF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F9B6F3-D137-45AD-8DE0-9551C6FBA7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6D1EF3-0395-4FE7-9442-EF20BB4B6D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C775DD-29DD-4996-9DC8-1F2CC68766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59317E-8B0F-4809-8A18-A0C0D52EE2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068979-12C5-4FB3-892F-03C5435A5E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C01D51-67AE-4D79-8695-E3BDD69A78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EF2EAFB-2E36-48A3-AD7C-AB2ADF16117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CC27F-B326-4DDA-B5D2-A46CA3319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C3CBC9A-0948-4CEB-885C-95FA15859B5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517EBA-9F13-4F21-9EA0-D1E7C4C7DDE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549306F-5156-4598-894D-0D6057AD2C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80FB4C-1733-4127-8272-28FE35321D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98A0EC-B650-4407-99FA-B3B98A3E644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C946D9-FA9B-4011-BEEE-D14FC6006B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92C048-0768-4EAC-A8B6-83EC1DF3843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224AE7-D537-42F0-B257-A11ABA6360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C5CDEF-B044-4E49-834A-C5A428EF04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6DC7E9-709A-4CB2-A0C0-89F9564EC9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294E6-906B-4AFB-9D90-3DEABFCDA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8AD74F-2841-4EFA-89B9-A1A8FBBB26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48E4BA8-B15C-4546-8BB6-FF07AAFE6AE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DBF452D-96FA-45E0-93C0-A781771FC67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5A50440-EF07-498C-9442-43D7FE75134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C8976D-388A-4436-ADEA-7CB63C5CE98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D9FF79-FA13-4394-895C-FB84861445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3A04305-7AF5-4B6F-B1FB-241B18D18C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4219D6D-CB38-41FD-966B-05AA8249D2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6E93021-28D9-4EC8-A7B6-4D57749889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45B3ED-BDB7-470B-BA89-2833D775CD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D8607-9A49-47D3-BC2E-FE9D02BEB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7240F-255E-499D-A100-05ADBA45F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8BD006-AAF4-430D-A077-007618EA6CB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078F2B-2474-48D6-96A8-ACDF01F1F8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AB2712-906D-499E-95C0-8C9121E75A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660827F-168E-4CAB-BCE5-9E2BE61DA63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56138F2-8512-4195-93B8-20FD29D6531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F0FC2F2-E14A-4DD1-B1E2-B41FD85E435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17F981-F4C2-4BAE-A700-57AC49A2DA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613A46-BD6D-4B54-9857-B7A8E461E64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B913CCA-6D9A-4517-992B-0BB3E61A61C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F717C54-D0DD-419B-88D7-9FF37501EE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F8E5B-260F-42CD-8963-62FED38E5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BC2AD8-5858-4871-8277-377C0DC3F26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A67FD7-80B5-4A76-983F-8C59BF00F3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A55AB4-A1C3-4C6A-9586-A89E124C59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C8D9F3-7678-4B01-A871-A9EA04F5A3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7359BB0-FFC8-4F72-AF17-D7918738578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1521E11-20C6-4578-B24B-D906BF624AB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D1050D9-CCC8-4D20-8279-A71B693BAB5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E24F7BB-15B2-4689-9149-93CCFA92A3B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692811-5EFC-4681-8C29-574F14D0C67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C314519-8AC5-42BB-9833-4F7241BFFA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C111F-A696-4170-8E6E-81A501850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4FF7682-3E12-400A-B1D0-323DC44CAB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31C4C08-BDED-4DB9-A722-E61135AA8A3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846CA75-70D2-42AE-AFEE-C6F901CC8CE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37BD63-C7E2-46CF-A322-C2C3355972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D08F9E-7E05-4193-A8E1-434DD07B3D3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8F3596-46F2-410D-96C7-DA6F2E6690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6057344-9A74-47CC-8E8A-96F3357057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D47B507-244E-4460-BAEC-222584566F3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7564AF4-FA33-49DA-A67C-935E2899BED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3894D8B-F441-4D03-9DEC-1E682C5239F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59D2C-60C8-428A-AE9F-4220CA7E6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5A2D19A-1BDE-46E1-A631-83C1497A1B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72CDCBA-8C03-48C5-A62E-34BA69A1753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2C0C994-39B7-4D0C-B96A-0FF0CF4755F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4FDB59A-F7B8-4069-BA15-C86CFFDA1C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7E229B-716F-476C-AA60-AE559D797E9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3503AF1-FEDA-4AD7-A8CD-EE81C7880D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252BBB-72C5-4BF4-9B5A-B8EF1DD4242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05A345-72C6-4AB3-AF6E-3D67873E42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380A5DD-CD03-4A5F-9597-C0D3EF686BE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6B3425E-C4B6-4FB7-919D-D80D64EF3A7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9A76B-E3D7-4052-A458-262530334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1A0653E-86CD-4845-9D74-D4CCDE8F962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0EEEDAF-16A1-46C3-9013-9D1250CC3A5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ADB8E0D-F497-4123-9D39-7AFE3236E0B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F59F44F-C773-43F4-8C48-F410AA5D15D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81B483B-282A-4110-B79A-10C1EA7B0DC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B241672-749F-4A76-B34D-4EE4BDB155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1690D2B-770D-4784-9461-6DC21A7CB17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668E3E-8985-4404-BB97-08C5DF8E49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C4FC9E2-AF38-48B3-ACCA-680920B66A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8D1E64-1ED0-4DD8-AB25-A18E60662F2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DA070-7265-4158-8914-7DDD9E58C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8F931E-0314-446B-8C45-568585BBF0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FB2E72B-9252-4DA1-9496-E3D3B9FA650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49F3D78-05CE-4A80-BBC6-0B7C79231DB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5A69E68-C7E0-4793-9A8B-00D9D1D7328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DF46765-66C7-4F07-AF0D-59C315F0D49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80282C6-A1EE-49AC-9B67-A0F84923061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B7C3862-107D-4A90-9153-56447672EB2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F4ADECF-C44C-46CF-B193-766C5C29828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17C674C-F0DE-45E5-AF79-CC39DE2AC39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BBF47C9-23EF-45FE-932C-F46664729DB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0F2FC-8024-41B1-AABD-02BC093EF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2989BD-9DAE-433E-B4F0-F1C888B0C02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D247EB-78A0-496F-B4D9-7F3F02401E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F118CAC-9FBD-4802-AE18-9C7CE9E9870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4938BF4-CDC7-49C4-AA96-4AEF38F4041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90708A8-98AA-45EF-99C1-84239B006BC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DD3091B-1DCC-4F76-B01B-DE3118E4B5D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25ED65E-B905-4A09-8699-2369FB34BC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A91169C-3CB1-49B6-98D9-FCC44A27DA3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A50A9E8-481B-456E-BD3C-318ED7DE57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857C986-915A-4928-89CE-0096DB78442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008FF-E312-44B2-B197-90224C248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BC4E583-703A-4B52-9E66-DBC339D7310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724114-8ADA-41F6-90ED-15A783653F1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67C647D-1983-4F6A-BA65-ADBEA89DC74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60745D4-9ACC-4D4E-9B4C-E1E390AB5F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7A29B54-68DB-4F48-8971-86B22EFB3CF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7790E4A-05AA-46EB-9F13-0F754162D36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E8C5AF9-C311-4AF0-97A1-3D2D386DFC9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86CA3BA-6C59-4CF4-B229-5588589E38C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843C792-7A16-4D45-BCAE-5E829E7AE25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0015FE6-129E-4B94-A18D-B2431A15023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C00CFA-DBBD-4FF6-B8DB-F462E726B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C9F5DEE-E47C-41BA-A8B0-071FC0DE24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C43B25D-1FFB-4618-930B-74089BD6E7C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7E2A98F-330A-4E1C-B996-87FFBD0BA0D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F0CEDDB-3B29-412A-BF07-7205DD54B4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5A333A4-FF38-44E3-BE8E-A532B836A91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3109505-DEF9-4DBD-81A8-C97C8960656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04B8008-A97A-4C4A-AB58-0206B5870B0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095BD40-BCCD-4CDE-903E-9C7864D8B7C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87BA12F-3B86-4AF7-B74E-350E628EF09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B1F1729-B1E9-41DB-9DA4-F254AF718EA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2DC56-9615-45C1-BD67-401E67500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11B7300-445B-4FCC-A6B4-F566EDB72DA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C92C7FE-4F62-405D-BD49-263FD27B0EF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3D31DBA-45D7-4BE2-A21D-7761C858F80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616E3A0-5400-4D6D-81BB-E0D72CE6465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9F941C0-1754-423C-A89C-F3B18A3F129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DE2414C-108B-4E2A-9F95-8D53A7E3A58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F9DD225-1122-4B13-B65F-EDAED84A369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16D2F67-91A2-402A-A87B-7277362D665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3079E90-E58C-4AD9-B2D7-DB65D5DFAB2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8922D10-0325-4FCC-BDC2-135A2882BF8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F000-B835-4183-810A-79813CD26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739AC-66C2-4B05-8C5B-26CF0CD96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3964755-18FE-475B-8B1C-CEE0D27FC53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F1328D5-3228-4738-9B26-3EF99004672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D8C9FDB-D6DD-4327-9C93-301138B540A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33FC5B1-C55C-44BD-840E-20DC8EC776E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CDA34C0-3CEA-4F9B-9919-108377BF48C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1035DE1-22C0-4C5B-916E-AF1F8E0332E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4565165-7CA6-40EA-8375-C3A080AB7AB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8F6ABCC-348E-41E1-8033-EC5F56184DE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2B8D46F-6D7F-46FD-BD4A-0E0180944CE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7AB49A-3F5C-4307-8470-B6DA9294C12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2D2BC-6EDD-4F41-9CE1-BBC9F871B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30CE1BA-7C5C-4ED7-A8AB-983D0EB96BF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7DB0AC7-35AA-455C-911A-53C2F9BF0B2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95619B3-BF68-4982-AD4C-1BA5A6705F9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CB81F30-962F-4615-BFA6-4D9A25872CE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BC93A96-569E-446F-999D-F88A6D613B1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6D8B065-FA65-4444-B7DC-5D0ADF3CA42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D06EA34-0A27-403C-9125-2E05EE38F6F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BEECA3E-E476-4BD3-A0D5-749D6C7C060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D2FBC5D-8CDA-4657-95C0-351168A36A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D8AF318-4FCE-4EB6-8AA8-BD15FD97F91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DF719-0961-4FE1-9EC1-DCF275A67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A7703CC-9741-4B24-A895-F9B9F0F4095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1CD62F6-0120-456C-97BC-796C88D8229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3AC6097-CB5C-4B45-8F03-A1E849C16AE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8C8CC5B-D037-4634-B5B5-FE993F09F5D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9A61618-12E8-4248-B8EC-80FC53EF5DC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C6F0CDA-FCE9-4A4E-9810-391A3AE08B2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50B6510-E353-4DC7-B616-5E6701CD796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A381DBA-9CAA-4CEA-841B-BBF5B761D3E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CFB9B13-2783-4854-B4DE-22631F6C568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253C00F-5950-4319-B792-EED826F8B47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ECBC6-C227-4573-B4F0-561606686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76F12FF-EE3E-4D35-8B63-25E71667650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A0A37FE-CA6E-435A-B32A-3D1866EEC9E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AE22E04-5264-4124-ACA6-018DF8646A0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FD62C3F-250E-4C2D-AFC8-5F3B28FEF26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556FC05-4959-4842-8052-814199037F5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4E6BBA1-80F9-4015-8709-275E06D162E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1D9966C-4320-4DE1-8C53-3EEA5A3A6D3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B839324-40D1-4AFA-9CFD-EB719070E00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013EA86-BD30-496B-8B5D-FBBEE719EAE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E7DB665-803F-41C0-B0DB-C3664F50D7D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FFCC2-1F5B-40CF-BE8A-6D4A49F90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860C064-80C9-456C-8517-9170EE0B160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9F96279-7FD1-4006-8FA4-7860BE00288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32FFACB-D1C4-4FA4-9292-0BB9285EE9C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194C287-AD65-4725-A1FD-B953702B1E8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03F9D1E-34F3-42DA-9633-465671B1B3B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908CBB7-1BE7-4701-A5DD-1A648040E18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463701C-1F56-49F4-A3F5-96A6737A4ED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D0AC4A4-C7B0-42C3-A183-7CD983883B3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AAFFD0D-A0BD-4F31-8148-4900717FEA5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A3BB780-530B-4BD9-90A6-756ADFCC0E0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A36BB-CAA4-4376-B806-DB20D34F59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8572A40-1F3D-4C68-A121-BE857EF6EF6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6FF93FE-0813-4492-BE60-7F5373A48C8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6A31B88-7261-4CD8-9F34-5EF591320EE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F9871F9-AAD9-4720-A55E-866C8E0A4F5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D5A4293-9859-4DC3-B2BB-331808FEAAA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1317AEC-EBC5-45D6-A655-F6F6D633D27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01F9CD9-A9A3-436C-9248-4C7D077DBC2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9510F13-89EB-4FA5-8A10-C4022960EE1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B265DF1-BE7D-4733-9BFB-C0AF3C897DF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699419F-5D87-4346-87A0-76E49B2F19A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B63FF4-8F80-4CB1-AD2D-3D34DB2FBA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A9232AA-B1F8-424E-85AC-EFABA2295D9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2671B8-92F6-4FFA-B913-65E84FDCA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0A3E2-213A-4443-8E84-5B5D272C6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A9FD9-496F-4B3A-BB1F-FD722F555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6B3F-26E6-43B2-87DE-D4A6911F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5165C-086A-4B84-B0C2-ECBD70D41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7800B-5DB7-4F97-96F6-E1B198499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B1281-7969-4079-9825-672EDD5ED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79FBF-52FE-4D11-AB59-B9DEA42A8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09282-FF67-4D1A-BDDD-8C22A58EC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3C416-BD81-4AC4-B797-ABECB3EC4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78DDD-346E-4A11-B8EC-71A4533AA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7AEF60-6B19-468A-851D-8E89A03712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2447F9-3C0B-48F5-BCE6-DB89F7927B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A8F374-2FF6-4D91-9C65-0817C39711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51FDC-51CB-442D-9271-4A5F5F45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D86D83-253F-466E-82B4-BDA04A0B1A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8E7054-0A64-45C0-BC0A-17D807A60D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A8D35B-F745-4A4B-8B5D-033FAFD36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dt" idx="11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748B1-2B95-4E62-8415-BC7F10DE1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dt" idx="11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C174F4-45D1-4FF7-AAEB-EE3B8B388C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dt" idx="11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dt" idx="120"/>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FC22B-A54C-476D-8CA4-3DF66A4C9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dt" idx="120"/>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dt" idx="120"/>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dt" idx="12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2D3F6-073D-4E90-9854-047EC84ED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dt" idx="12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dt" idx="122"/>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dt" idx="124"/>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DEEBD-337C-4F20-A3FD-2F32B2DB8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dt" idx="124"/>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dt" idx="124"/>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dt" idx="12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959C32-0261-400E-8C6B-E79BB31A39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dt" idx="12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dt" idx="12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4E61A9-B310-420E-B93A-B7423A64F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9A81E-32D7-4394-905B-D303E52B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EC7385-2BBA-448F-9A5C-A6134CA48C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CF559A-820E-4A87-ADE2-F5C10257B1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69B7B-C06A-451C-ABDC-1C17091E53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67B98-6D65-42F9-A188-7F7FF537FE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5B46DA-B219-497F-9DC0-B321B971A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A8A1E8-36C6-4D03-8875-5401589E3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B386D-C52C-402A-98D5-6642042C85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2B307-2507-413B-AB72-279E3240A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7B19F-CDC4-487C-BFE0-24F94A245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CF02A-5598-442E-9340-134ED0109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EBFA5-46F5-42E1-9991-D6F8312A7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B47EB-529B-4283-A3C8-347CF6683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6D5E7D-E376-4F34-8525-6952B4A21A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EA91DE-7280-40FE-B6E4-B83D93EAC7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8DA375-9E7F-4EE8-9677-5888163DFC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A71A42-DBAB-4CF5-822E-760245DAB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F1D12-5B2D-4CDA-96C5-FF62538D5A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41679-7DB9-4B3A-A866-3B242FFF78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73CA84-8BA8-4534-8A5F-88E6A654D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5ACFAA-C81F-46A6-A00A-3D9B45B5D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CAA6B-D45C-4BEE-B7BE-49A07B3567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C589C-2C2C-4B37-AA19-6BEF8495D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FD10B-33B5-4760-9E4E-263647FFD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98A01-026F-4AE2-823E-A5C0F103A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E84EA9-A4DA-48C6-B602-257B404A0A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96450A-8CCC-4C5F-A308-2784D9E00A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E581AE-3BF0-4DB1-BA41-0BEA221EC0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054658-18D5-411B-8986-4114565B91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031794-21D4-413E-AE57-50B3362BC5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63642-C42F-4A54-9ED2-FC4DD8FAF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CDE631-C1E3-4504-969C-021A2E5104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F7208-92C1-4523-BB3E-005EB079A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196FC-9658-4B59-AFAE-5A4DC2097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BB596B-60E5-4B42-8247-18A0B190B6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D3953F-5821-4E4F-A46B-1B45EC79C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CFF0A-6162-4F80-97C6-E725480F1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27E60-7BB4-4229-AD5B-CFA5DA45D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5959E7-442D-4648-89C6-D3E0AD0FBD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F70298-F092-476D-BFDA-BC472EC9F0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35C742-2E25-42BC-AD6F-57F32A6151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032BF3-DDF1-42E4-B07E-EBBBBEF41D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E0442-E9D0-4203-8910-FC37D29605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B0D7CE-09DF-4981-BC8A-4AD1F3E87A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8355-C237-4284-AD7C-9755A7AA7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DB55-0F8B-4730-AEED-C5BD24357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5717-30F1-4359-8DC0-CC5BC259D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23DE-0C62-4403-BBB0-50C5FDFC3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EB21-EA43-4AF4-A1E1-E3741020A8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B386-39A2-4018-9231-9496CE56D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AF79-255B-49E6-B21A-21509A4E1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D0C5-4F43-4C75-AB48-CDF83C0DF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A5F8-329D-4E7A-A9F5-A7A32BE90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E661-FE16-43BE-8147-74B9E499E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EDC3-2FA4-4921-895D-BD542A191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DB4C-E365-4069-B530-46AA5E508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AEEF-4EB3-47F5-81DB-AEF194089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092C-2E8F-446F-9FF6-8353EB386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6312-E7F2-49F3-AF12-53ED9AF09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3394-1502-4F8B-8131-B2F5CE3BA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132C-D9E8-4DAB-94E1-4ECB715D8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3EBF-9896-4506-AB29-98B3A5BCB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A0B9-9F24-4222-A78E-B3AE3B3B0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0B5E-96DA-4464-A1FC-F8CDB5FA9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0BA7-88E3-400D-93FC-2C3BB1ECB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C263-7CF7-4258-8225-D9D1E2B3F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41ED-8ECC-489C-A04E-302CF9D4D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9"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38CB-4B68-495A-A88D-F945CEE14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2"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2"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2"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3"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4"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5"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6"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7"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8"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AEAC-9C8B-46B3-A258-B2EA43407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9"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0"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1"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2"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3"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4" name="PlaceHolder 3"/>
          <p:cNvSpPr>
            <a:spLocks noGrp="1"/>
          </p:cNvSpPr>
          <p:nvPr>
            <p:ph type="dt" idx="1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PlaceHolder 4"/>
          <p:cNvSpPr>
            <a:spLocks noGrp="1"/>
          </p:cNvSpPr>
          <p:nvPr>
            <p:ph type="ftr" idx="1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5" name="PlaceHolder 3"/>
          <p:cNvSpPr>
            <a:spLocks noGrp="1"/>
          </p:cNvSpPr>
          <p:nvPr>
            <p:ph type="dt" idx="1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PlaceHolder 4"/>
          <p:cNvSpPr>
            <a:spLocks noGrp="1"/>
          </p:cNvSpPr>
          <p:nvPr>
            <p:ph type="ftr" idx="1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6"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7" name="PlaceHolder 3"/>
          <p:cNvSpPr>
            <a:spLocks noGrp="1"/>
          </p:cNvSpPr>
          <p:nvPr>
            <p:ph type="dt" idx="1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8" name="PlaceHolder 3"/>
          <p:cNvSpPr>
            <a:spLocks noGrp="1"/>
          </p:cNvSpPr>
          <p:nvPr>
            <p:ph type="dt" idx="1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PlaceHolder 4"/>
          <p:cNvSpPr>
            <a:spLocks noGrp="1"/>
          </p:cNvSpPr>
          <p:nvPr>
            <p:ph type="ftr" idx="1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88D5-7F61-4EFA-9935-F80629C34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544D-3AD3-4E7F-ADBA-A535BD7F1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CF26-46F9-46F5-918D-6836CB492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027D-C35E-45AE-860E-7B42CF4CC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C7B8-9E99-424A-8BF1-4713B5177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0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7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7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1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7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3"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Pitching Your Idea</a:t>
            </a:r>
            <a:endParaRPr b="0" lang="en-US" sz="4800" spc="-1" strike="noStrike">
              <a:solidFill>
                <a:srgbClr val="000000"/>
              </a:solidFill>
              <a:latin typeface="Arial"/>
            </a:endParaRPr>
          </a:p>
        </p:txBody>
      </p:sp>
      <p:sp>
        <p:nvSpPr>
          <p:cNvPr id="2054"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
        <p:nvSpPr>
          <p:cNvPr id="2055" name="Rectangle 1"/>
          <p:cNvSpPr/>
          <p:nvPr/>
        </p:nvSpPr>
        <p:spPr>
          <a:xfrm>
            <a:off x="0" y="5181480"/>
            <a:ext cx="9144000" cy="46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5" name=""/>
          <p:cNvSpPr txBox="1"/>
          <p:nvPr/>
        </p:nvSpPr>
        <p:spPr>
          <a:xfrm>
            <a:off x="457200" y="17748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ement designed to convince your audience that something is good, bad, desirable, undesirable, fair, unfair, moral, immoral, sound, unsound, beneficial, harmful, important, or unimportant.</a:t>
            </a:r>
            <a:endParaRPr b="0" lang="en-US" sz="4000" spc="-1" strike="noStrike">
              <a:solidFill>
                <a:srgbClr val="000000"/>
              </a:solidFill>
              <a:latin typeface="Arial"/>
            </a:endParaRPr>
          </a:p>
        </p:txBody>
      </p:sp>
      <p:sp>
        <p:nvSpPr>
          <p:cNvPr id="207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2</a:t>
            </a:r>
            <a:endParaRPr b="0" lang="en-US" sz="1600" spc="-1" strike="noStrike">
              <a:solidFill>
                <a:srgbClr val="000000"/>
              </a:solidFill>
              <a:latin typeface="Arial"/>
            </a:endParaRPr>
          </a:p>
        </p:txBody>
      </p:sp>
      <p:sp>
        <p:nvSpPr>
          <p:cNvPr id="207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oposition of Valu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8"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ement designed to convince your audience that a particular rule, plan, or course of action should be taken.</a:t>
            </a:r>
            <a:endParaRPr b="0" lang="en-US" sz="4000" spc="-1" strike="noStrike">
              <a:solidFill>
                <a:srgbClr val="000000"/>
              </a:solidFill>
              <a:latin typeface="Arial"/>
            </a:endParaRPr>
          </a:p>
        </p:txBody>
      </p:sp>
      <p:sp>
        <p:nvSpPr>
          <p:cNvPr id="207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2</a:t>
            </a:r>
            <a:endParaRPr b="0" lang="en-US" sz="1600" spc="-1" strike="noStrike">
              <a:solidFill>
                <a:srgbClr val="000000"/>
              </a:solidFill>
              <a:latin typeface="Arial"/>
            </a:endParaRPr>
          </a:p>
        </p:txBody>
      </p:sp>
      <p:sp>
        <p:nvSpPr>
          <p:cNvPr id="208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oposition of Polic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eches to convince focus on changing or reinforcing audience’s belief or attitude towards a topic.</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eches to actuate focus on encouraging audience to take action.</a:t>
            </a:r>
            <a:endParaRPr b="0" lang="en-US" sz="4000" spc="-1" strike="noStrike">
              <a:solidFill>
                <a:srgbClr val="000000"/>
              </a:solidFill>
              <a:latin typeface="Arial"/>
            </a:endParaRPr>
          </a:p>
        </p:txBody>
      </p:sp>
      <p:sp>
        <p:nvSpPr>
          <p:cNvPr id="2082"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uasive Speech Patterns</a:t>
            </a:r>
            <a:endParaRPr b="0" lang="en-US" sz="4000" spc="-1" strike="noStrike">
              <a:solidFill>
                <a:srgbClr val="000000"/>
              </a:solidFill>
              <a:latin typeface="Arial"/>
            </a:endParaRPr>
          </a:p>
        </p:txBody>
      </p:sp>
      <p:sp>
        <p:nvSpPr>
          <p:cNvPr id="208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ative advantages show that one, two, or more alternatives is bes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satisfaction seeks audience agreement on criteria that should be considered when evaluating a particular proposition, and shows how proposition satisfies the criteria.</a:t>
            </a:r>
            <a:endParaRPr b="0" lang="en-US" sz="3600" spc="-1" strike="noStrike">
              <a:solidFill>
                <a:srgbClr val="000000"/>
              </a:solidFill>
              <a:latin typeface="Arial"/>
            </a:endParaRPr>
          </a:p>
        </p:txBody>
      </p:sp>
      <p:sp>
        <p:nvSpPr>
          <p:cNvPr id="208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86"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 for Speeches to Convi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refutative pattern challenges opposing arguments and bolsters the speaker’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ment of reasons are used to confirm propositions of fact in which speaker presents best-supported reasons in a meaningful order.</a:t>
            </a:r>
            <a:endParaRPr b="0" lang="en-US" sz="3600" spc="-1" strike="noStrike">
              <a:solidFill>
                <a:srgbClr val="000000"/>
              </a:solidFill>
              <a:latin typeface="Arial"/>
            </a:endParaRPr>
          </a:p>
        </p:txBody>
      </p:sp>
      <p:sp>
        <p:nvSpPr>
          <p:cNvPr id="208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89"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 for Speeches to Convi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0"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olution explains the nature of a problem and proposes a solu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cause-solution adds a main point that reveals the causes of the problem and proposes a solution designed to alleviate those causes.</a:t>
            </a:r>
            <a:endParaRPr b="0" lang="en-US" sz="3600" spc="-1" strike="noStrike">
              <a:solidFill>
                <a:srgbClr val="000000"/>
              </a:solidFill>
              <a:latin typeface="Arial"/>
            </a:endParaRPr>
          </a:p>
        </p:txBody>
      </p:sp>
      <p:sp>
        <p:nvSpPr>
          <p:cNvPr id="209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9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s</a:t>
            </a:r>
            <a:br>
              <a:rPr sz="3200"/>
            </a:br>
            <a:r>
              <a:rPr b="1" lang="en-US" sz="3200" spc="-1" strike="noStrike">
                <a:solidFill>
                  <a:srgbClr val="000000"/>
                </a:solidFill>
                <a:latin typeface="Arial"/>
              </a:rPr>
              <a:t>for Speeches to Actu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3" name=""/>
          <p:cNvSpPr txBox="1"/>
          <p:nvPr/>
        </p:nvSpPr>
        <p:spPr>
          <a:xfrm>
            <a:off x="457200" y="171612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vated sequence combines problem-solution pattern with explicit appeal designed to motivate audience.</a:t>
            </a:r>
            <a:endParaRPr b="0" lang="en-US" sz="32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ention step </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step</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tisfaction step</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sualization step</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on appeal step</a:t>
            </a:r>
            <a:endParaRPr b="0" lang="en-US" sz="2800" spc="-1" strike="noStrike">
              <a:solidFill>
                <a:srgbClr val="000000"/>
              </a:solidFill>
              <a:latin typeface="Arial"/>
            </a:endParaRPr>
          </a:p>
        </p:txBody>
      </p:sp>
      <p:sp>
        <p:nvSpPr>
          <p:cNvPr id="209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95"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s</a:t>
            </a:r>
            <a:br>
              <a:rPr sz="3200"/>
            </a:br>
            <a:r>
              <a:rPr b="1" lang="en-US" sz="3200" spc="-1" strike="noStrike">
                <a:solidFill>
                  <a:srgbClr val="000000"/>
                </a:solidFill>
                <a:latin typeface="Arial"/>
              </a:rPr>
              <a:t>for Speeches to Actu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6" name=""/>
          <p:cNvSpPr txBox="1"/>
          <p:nvPr/>
        </p:nvSpPr>
        <p:spPr>
          <a:xfrm>
            <a:off x="457200" y="1760040"/>
            <a:ext cx="8229600" cy="45262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hical persuasive speeches:</a:t>
            </a:r>
            <a:endParaRPr b="0" lang="en-US" sz="36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to improve the well-being of the audience by advocating the honest belief of the speaker.</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hoice.</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presentative supporting information.</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motional appeals to engage the audience in the rational thought process.</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stly present the speaker’s credibility.</a:t>
            </a:r>
            <a:endParaRPr b="0" lang="en-US" sz="2800" spc="-1" strike="noStrike">
              <a:solidFill>
                <a:srgbClr val="000000"/>
              </a:solidFill>
              <a:latin typeface="Arial"/>
            </a:endParaRPr>
          </a:p>
        </p:txBody>
      </p:sp>
      <p:sp>
        <p:nvSpPr>
          <p:cNvPr id="209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4</a:t>
            </a:r>
            <a:endParaRPr b="0" lang="en-US" sz="1600" spc="-1" strike="noStrike">
              <a:solidFill>
                <a:srgbClr val="000000"/>
              </a:solidFill>
              <a:latin typeface="Arial"/>
            </a:endParaRPr>
          </a:p>
        </p:txBody>
      </p:sp>
      <p:sp>
        <p:nvSpPr>
          <p:cNvPr id="2098"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cal Guidelines</a:t>
            </a:r>
            <a:br>
              <a:rPr sz="3200"/>
            </a:br>
            <a:r>
              <a:rPr b="1" lang="en-US" sz="3200" spc="-1" strike="noStrike">
                <a:solidFill>
                  <a:srgbClr val="000000"/>
                </a:solidFill>
                <a:latin typeface="Arial"/>
              </a:rPr>
              <a:t>for Persuasive Speec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2057" name="PlaceHolder 2"/>
          <p:cNvSpPr>
            <a:spLocks noGrp="1"/>
          </p:cNvSpPr>
          <p:nvPr>
            <p:ph type="subTitle"/>
          </p:nvPr>
        </p:nvSpPr>
        <p:spPr>
          <a:xfrm>
            <a:off x="595440" y="1668600"/>
            <a:ext cx="7967520" cy="4906800"/>
          </a:xfrm>
          <a:prstGeom prst="rect">
            <a:avLst/>
          </a:prstGeom>
          <a:noFill/>
          <a:ln w="0">
            <a:noFill/>
          </a:ln>
        </p:spPr>
        <p:txBody>
          <a:bodyPr anchor="t">
            <a:no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1</a:t>
            </a:r>
            <a:r>
              <a:rPr b="0" lang="en-US" sz="2800" spc="-1" strike="noStrike">
                <a:solidFill>
                  <a:srgbClr val="000000"/>
                </a:solidFill>
                <a:latin typeface="Arial"/>
              </a:rPr>
              <a:t>  Identify the initial attitude of your target audience.</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2</a:t>
            </a:r>
            <a:r>
              <a:rPr b="0" lang="en-US" sz="2800" spc="-1" strike="noStrike">
                <a:solidFill>
                  <a:srgbClr val="000000"/>
                </a:solidFill>
                <a:latin typeface="Arial"/>
              </a:rPr>
              <a:t>  Phrase your persuasive speech goal as a proposition.</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3</a:t>
            </a:r>
            <a:r>
              <a:rPr b="0" lang="en-US" sz="2800" spc="-1" strike="noStrike">
                <a:solidFill>
                  <a:srgbClr val="000000"/>
                </a:solidFill>
                <a:latin typeface="Arial"/>
              </a:rPr>
              <a:t>  Identify some dispositional and actuation persuasive speech patterns.</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4</a:t>
            </a:r>
            <a:r>
              <a:rPr b="0" lang="en-US" sz="2800" spc="-1" strike="noStrike">
                <a:solidFill>
                  <a:srgbClr val="000000"/>
                </a:solidFill>
                <a:latin typeface="Arial"/>
              </a:rPr>
              <a:t>  Follow ethical communication guidelines when preparing persuasive spee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8" name=""/>
          <p:cNvSpPr txBox="1"/>
          <p:nvPr/>
        </p:nvSpPr>
        <p:spPr>
          <a:xfrm>
            <a:off x="457200" y="1716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where most of the audience members stand on your to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rase a proposition that is appropriate to the rhetorical sit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suitable persuasive organizational fra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he speech based on ethical guidelines</a:t>
            </a:r>
            <a:endParaRPr b="0" lang="en-US" sz="3200" spc="-1" strike="noStrike">
              <a:solidFill>
                <a:srgbClr val="000000"/>
              </a:solidFill>
              <a:latin typeface="Arial"/>
            </a:endParaRPr>
          </a:p>
        </p:txBody>
      </p:sp>
      <p:sp>
        <p:nvSpPr>
          <p:cNvPr id="205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ng Effective and Ethical Persuasive Speec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titude</a:t>
            </a:r>
            <a:endParaRPr b="0" lang="en-US" sz="6600" spc="-1" strike="noStrike">
              <a:solidFill>
                <a:srgbClr val="000000"/>
              </a:solidFill>
              <a:latin typeface="Arial"/>
            </a:endParaRPr>
          </a:p>
        </p:txBody>
      </p:sp>
      <p:sp>
        <p:nvSpPr>
          <p:cNvPr id="2061"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 general or enduring positive or negative feeling about some person, object, or issu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arget audience</a:t>
            </a:r>
            <a:endParaRPr b="0" lang="en-US" sz="6600" spc="-1" strike="noStrike">
              <a:solidFill>
                <a:srgbClr val="000000"/>
              </a:solidFill>
              <a:latin typeface="Arial"/>
            </a:endParaRPr>
          </a:p>
        </p:txBody>
      </p:sp>
      <p:sp>
        <p:nvSpPr>
          <p:cNvPr id="2063" name="PlaceHolder 2"/>
          <p:cNvSpPr>
            <a:spLocks noGrp="1"/>
          </p:cNvSpPr>
          <p:nvPr>
            <p:ph type="subTitle"/>
          </p:nvPr>
        </p:nvSpPr>
        <p:spPr>
          <a:xfrm>
            <a:off x="174600" y="2147400"/>
            <a:ext cx="8794800" cy="3745080"/>
          </a:xfrm>
          <a:prstGeom prst="rect">
            <a:avLst/>
          </a:prstGeom>
          <a:noFill/>
          <a:ln w="0">
            <a:noFill/>
          </a:ln>
        </p:spPr>
        <p:txBody>
          <a:bodyPr anchor="t">
            <a:noAutofit/>
          </a:bodyPr>
          <a:p>
            <a:pPr lvl="1" marL="45720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the group of people you most want to persuad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4" name="Picture 5" descr=""/>
          <p:cNvPicPr/>
          <p:nvPr/>
        </p:nvPicPr>
        <p:blipFill>
          <a:blip r:embed="rId2"/>
          <a:srcRect l="0" t="19996" r="0" b="0"/>
          <a:stretch/>
        </p:blipFill>
        <p:spPr>
          <a:xfrm>
            <a:off x="168120" y="3706920"/>
            <a:ext cx="8975880" cy="1137960"/>
          </a:xfrm>
          <a:prstGeom prst="rect">
            <a:avLst/>
          </a:prstGeom>
          <a:ln w="0">
            <a:noFill/>
          </a:ln>
        </p:spPr>
      </p:pic>
      <p:sp>
        <p:nvSpPr>
          <p:cNvPr id="2065"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Sample Opinion Continu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se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opinion</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nform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thetic</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favor</a:t>
            </a:r>
            <a:endParaRPr b="0" lang="en-US" sz="3600" spc="-1" strike="noStrike">
              <a:solidFill>
                <a:srgbClr val="000000"/>
              </a:solidFill>
              <a:latin typeface="Arial"/>
            </a:endParaRPr>
          </a:p>
        </p:txBody>
      </p:sp>
      <p:sp>
        <p:nvSpPr>
          <p:cNvPr id="2068"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ttitudes</a:t>
            </a:r>
            <a:endParaRPr b="0" lang="en-US" sz="5400" spc="-1" strike="noStrike">
              <a:solidFill>
                <a:srgbClr val="000000"/>
              </a:solidFill>
              <a:latin typeface="Arial"/>
            </a:endParaRPr>
          </a:p>
        </p:txBody>
      </p:sp>
      <p:sp>
        <p:nvSpPr>
          <p:cNvPr id="206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0"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roposition</a:t>
            </a:r>
            <a:endParaRPr b="0" lang="en-US" sz="6600" spc="-1" strike="noStrike">
              <a:solidFill>
                <a:srgbClr val="000000"/>
              </a:solidFill>
              <a:latin typeface="Arial"/>
            </a:endParaRPr>
          </a:p>
        </p:txBody>
      </p:sp>
      <p:sp>
        <p:nvSpPr>
          <p:cNvPr id="2071" name="PlaceHolder 2"/>
          <p:cNvSpPr>
            <a:spLocks noGrp="1"/>
          </p:cNvSpPr>
          <p:nvPr>
            <p:ph type="subTitle"/>
          </p:nvPr>
        </p:nvSpPr>
        <p:spPr>
          <a:xfrm>
            <a:off x="174600" y="2211480"/>
            <a:ext cx="8794800" cy="37447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declarative sentence that clearly indicates the position you will advocate. </a:t>
            </a:r>
            <a:endParaRPr b="0" lang="en-US" sz="4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2" name=""/>
          <p:cNvSpPr txBox="1"/>
          <p:nvPr/>
        </p:nvSpPr>
        <p:spPr>
          <a:xfrm>
            <a:off x="457200" y="17748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ement designed to convince your audience that something:</a:t>
            </a:r>
            <a:endParaRPr b="0" lang="en-US" sz="40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probably did, probably did not, or did not exist or occur.</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probably is, probably is not, or is not tru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robably will, probably will not, or will not occur.</a:t>
            </a:r>
            <a:endParaRPr b="0" lang="en-US" sz="3200" spc="-1" strike="noStrike">
              <a:solidFill>
                <a:srgbClr val="000000"/>
              </a:solidFill>
              <a:latin typeface="Arial"/>
            </a:endParaRPr>
          </a:p>
          <a:p>
            <a:pPr lvl="1" marL="743040" indent="-2858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oposition of Fact</a:t>
            </a:r>
            <a:endParaRPr b="0" lang="en-US" sz="5400" spc="-1" strike="noStrike">
              <a:solidFill>
                <a:srgbClr val="000000"/>
              </a:solidFill>
              <a:latin typeface="Arial"/>
            </a:endParaRPr>
          </a:p>
        </p:txBody>
      </p:sp>
      <p:sp>
        <p:nvSpPr>
          <p:cNvPr id="207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7:00:53Z</dcterms:modified>
  <cp:revision>358</cp:revision>
  <dc:subject/>
  <dc:title>Chapter One</dc:title>
</cp:coreProperties>
</file>